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00C9-7694-4E98-8910-FA030109E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3B73-9B41-4F1C-8576-7650EF613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A1C7-E514-4F6C-8BBA-F95F1CE40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9844-B8B1-4BD2-B78E-D8B320AE4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D0E7-3771-431F-838F-4BFECE10C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A79E-B907-4EA7-934E-C62DAE55F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D844-C38A-42FF-8438-3E92DACFD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AF59-AD2D-4845-A325-3DAAF4168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97B8-AE7F-429C-9DD4-F35B70A82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F63A-D3D2-4383-83E9-56F9360B0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C267-F448-4024-8A41-38CE61CB9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B7A7-3301-4D97-8B14-17A8E953B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4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BF8E0-CB8B-4C9C-8545-D2C9E3F946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5T19:09:17Z</dcterms:created>
  <dc:creator>IMS</dc:creator>
  <dc:description/>
  <dc:language>en-US</dc:language>
  <cp:lastModifiedBy>IMS</cp:lastModifiedBy>
  <dcterms:modified xsi:type="dcterms:W3CDTF">2007-10-25T19:09:34Z</dcterms:modified>
  <cp:revision>1</cp:revision>
  <dc:subject/>
  <dc:title>Slide 1</dc:title>
</cp:coreProperties>
</file>