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A3EC7-A7C3-433F-9F52-9F350847C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DFCA8-D6AB-473F-96D2-886D2575A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2559B-4EC6-480E-AB5A-27EFED1C3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66E37-DBED-4D63-9B29-4702149AC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B7CBC-25B9-45EB-B7F8-8D138EA41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A9BB9-E3AC-495E-B2BD-1EB2CD0CC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136B1-80A4-40B8-A0BF-1D0682AA6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F2325-0869-498B-B2F5-361AF5336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C10A3-159F-4D40-816B-19D6A5290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F025D-9743-459C-A34E-997BBC5AD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64BFD-F322-434E-A6D7-39B2DEDFA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903CC-EC3D-4101-A851-10744F488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4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4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233A9-6517-4A20-870D-5E94E62C2B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5T19:09:17Z</dcterms:created>
  <dc:creator>IMS</dc:creator>
  <dc:description/>
  <dc:language>en-US</dc:language>
  <cp:lastModifiedBy>IMS</cp:lastModifiedBy>
  <dcterms:modified xsi:type="dcterms:W3CDTF">2007-10-25T19:09:34Z</dcterms:modified>
  <cp:revision>1</cp:revision>
  <dc:subject/>
  <dc:title>Slide 1</dc:title>
</cp:coreProperties>
</file>