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081A-D6A1-4788-8E64-7E3B5E6E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B5C2-5A27-4D95-ABAD-144EE516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BFE2-2A89-4E93-9DD5-4DE0A0436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F542-54AB-4C69-9C73-B3CFD9DC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40B6-21EA-4EED-9D0C-93E75DF6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2A8A-805C-4D57-8017-EFCEE358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8643-D40B-44D9-9696-34DDA3ED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07EE-A2FB-4237-BC23-ED51F122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43B3-949D-4373-93D8-18551381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4620-31F2-411E-92B2-B8FC6F42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C377-8F0D-424D-B49E-F442DF5F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1019-9E5A-4A88-B9B7-DDF96A86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04D3-0A8A-4B94-A1C2-8520A06DE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4T20:28:44Z</dcterms:modified>
  <cp:revision>8</cp:revision>
  <dc:subject/>
  <dc:title>Slide 1</dc:title>
</cp:coreProperties>
</file>