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FCA6-00A5-4A5B-BD52-0393D0835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C50F-EFC0-469C-AFA9-016EFB43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3172-8364-4BE2-B6EC-09E1A5DB7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F95A-BA58-4404-BE76-FC582C382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69A3-720E-47D8-B5A4-D9D0285C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E85E-991E-4307-96A4-FFF96F43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1713-18CF-4845-A221-2D36BF65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ACDB-EB9F-4D41-9A95-3C969134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9ACF-2B3C-4D60-B39E-7EC786CC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71AA-7F4E-404F-A19C-6BD98E77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BBA8-05E7-440B-B8D1-4C2EB6A5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EAB1-8CBB-4421-B997-C0BD5E0D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AD79-5EA5-42A9-BC37-519A95F2D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4T20:28:44Z</dcterms:modified>
  <cp:revision>8</cp:revision>
  <dc:subject/>
  <dc:title>Slide 1</dc:title>
</cp:coreProperties>
</file>