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67C6-0C88-4EA5-BACB-6F0017923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00D7-72FF-4790-80BF-10FEA8C3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4699-5E7E-436A-9B8A-F733EB939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FEC7-73FE-4274-B188-1D4B5F660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38A4-CA11-4DF0-845B-DE8EF646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CDAA-625A-4D7E-9B7A-9FC942BA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F4F4-340E-41FB-B445-11E80E26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1C5C-B20E-489D-935D-5ABAF38D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850A-C3C9-45C6-B429-D96D4DD7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7668-6BF7-46A3-B0AF-8EFCE98D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2699-183F-4A05-A1A0-9009AA52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17F5-E7D6-4042-B1A6-0216FCBB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3592-E7C9-4A1E-886D-F2AD243D1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4T20:28:44Z</dcterms:modified>
  <cp:revision>8</cp:revision>
  <dc:subject/>
  <dc:title>Slide 1</dc:title>
</cp:coreProperties>
</file>