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C723-1EEC-462F-9CD4-4D0FAE7F8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DF4D-B297-4DF2-8B39-EC0B6D5D1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6263-67C1-4961-B785-C473F36FC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BB87-4B7B-4B7E-99A2-A635EFD2F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725D-E9D1-469C-8086-7F4888750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D4C7-4869-4022-9A7D-8CB014E97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44C6-AA86-4251-9606-F14592FA9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1742-83AA-40EC-955E-E6C026B28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B1AD-ABE2-4748-ACAA-A8CCCDC4B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83D9-2982-4892-84A3-8DB7E3E95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76F5-C6FB-4BC3-A360-27E91EBC5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2A0C-EC33-430A-B5B1-45A36C9BA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4270B-DCD6-4938-970E-723D9DA6DC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0:25:35Z</dcterms:created>
  <dc:creator>IMS</dc:creator>
  <dc:description/>
  <dc:language>en-US</dc:language>
  <cp:lastModifiedBy>IMS</cp:lastModifiedBy>
  <dcterms:modified xsi:type="dcterms:W3CDTF">2007-10-24T20:28:44Z</dcterms:modified>
  <cp:revision>8</cp:revision>
  <dc:subject/>
  <dc:title>Slide 1</dc:title>
</cp:coreProperties>
</file>