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662D-5BD9-43D4-9DE7-21CB935AB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F44D-169C-4B32-86F1-5FF603775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AE56-6222-4B92-B480-141D8C320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D0FF-8EE1-467C-AF48-1D4953392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D28E-C62C-4790-BC19-F51A7F8F0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E083-16BB-4673-867D-94CF742E4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E9AF-88EA-4904-B7E1-D313CAB81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3B98-293E-4DFF-8D7F-1113D9324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79C6-5B13-4C8D-AFF7-F58AD504A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A5CF-74DC-48B1-B06A-642B0F43F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0BFF-8F0B-4DED-B180-3294BC0C0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8D53-4682-4C7B-81AF-FEDFAC020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D5030-2EF2-434E-8FB5-3C5686D79D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4T23:07:52Z</dcterms:created>
  <dc:creator>IMS</dc:creator>
  <dc:description/>
  <dc:language>en-US</dc:language>
  <cp:lastModifiedBy>IMS</cp:lastModifiedBy>
  <dcterms:modified xsi:type="dcterms:W3CDTF">2007-10-24T23:07:57Z</dcterms:modified>
  <cp:revision>1</cp:revision>
  <dc:subject/>
  <dc:title>Slide 1</dc:title>
</cp:coreProperties>
</file>