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7270-BFE9-4458-9A7B-87E1D1641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19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4E40-A604-44B6-A412-5F10D51CC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2F13-C3B3-4E71-8F94-83E7F37D5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55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55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19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19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19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9AA4-6943-44EE-8B42-C976C9892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D7CB-C335-45A4-843E-46D1953E4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2089-4CDF-4CF6-A85A-54912154C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19FF-EE37-4024-BD42-283FD9CA1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6293-3893-4B13-952A-A12A7375C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4000" y="556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7695-F84F-4D47-936E-04F9F7521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82BF-C78D-4877-9B0A-5BC0B576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9B2B-43C6-416A-980F-1FA828410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19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AB51-BC6D-445E-A137-ACCDFA85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c2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26EBF-091B-4A6D-9613-48F46AE1AA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2:55:37Z</dcterms:created>
  <dc:creator>IMS</dc:creator>
  <dc:description/>
  <dc:language>en-US</dc:language>
  <cp:lastModifiedBy>IMS</cp:lastModifiedBy>
  <dcterms:modified xsi:type="dcterms:W3CDTF">2007-10-24T22:55:59Z</dcterms:modified>
  <cp:revision>1</cp:revision>
  <dc:subject/>
  <dc:title>Slide 1</dc:title>
</cp:coreProperties>
</file>