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8F6C-6E11-4E57-809E-88DCB901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7B64-3D4A-4CA6-A0D6-B7351047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5993-8D8B-43AD-96A2-6190FBBA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5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19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C768-5E39-4E49-A0A7-03859465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AE03-E2B7-4C9F-BB16-C3C3FCCC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F6E0-9471-4C7D-ABE5-546A5EF8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B296-8AE8-4B56-82AB-A6DE7920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C4B0-02D4-47A8-BD4E-5C6BBA49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92E4-7BD9-4368-AA37-BA1EC321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4C36-49C9-457F-82EA-C4F79CC1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19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9413-8B44-4C54-AAD2-C279ABE5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5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19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133A-E2C0-40D3-901F-A214F335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c2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62AC-FE0A-4638-995C-B804DD552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2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2:55:37Z</dcterms:created>
  <dc:creator>IMS</dc:creator>
  <dc:description/>
  <dc:language>en-US</dc:language>
  <cp:lastModifiedBy>IMS</cp:lastModifiedBy>
  <dcterms:modified xsi:type="dcterms:W3CDTF">2007-10-24T22:55:59Z</dcterms:modified>
  <cp:revision>1</cp:revision>
  <dc:subject/>
  <dc:title>Slide 1</dc:title>
</cp:coreProperties>
</file>