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58D8-B3BA-4AD8-B2F1-3B71F0BDA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30A4-3258-4B64-BF15-6C462B57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B3B2-9BA1-4A2D-9D42-338BCA21C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18D4-8170-442E-B6F4-C6C60B569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6ED5-C0F9-4F5C-97FD-F0E56423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6DD9-CE26-4FA4-9FC8-155D2BC1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6E16-750A-4AAC-A453-BD6690DB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1BFF-487F-46E4-8AE7-3D1FE30A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556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FF1A-EC93-4E3B-AE3A-D50575B3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B346-16B8-4D0B-9A9F-DF88210B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4836-0DC0-4F60-8457-D9780416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E782-0648-40F3-9810-5C694B73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2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C281-E2FD-44A6-B35C-BC355EA7C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2:55:37Z</dcterms:created>
  <dc:creator>IMS</dc:creator>
  <dc:description/>
  <dc:language>en-US</dc:language>
  <cp:lastModifiedBy>IMS</cp:lastModifiedBy>
  <dcterms:modified xsi:type="dcterms:W3CDTF">2007-10-24T22:55:59Z</dcterms:modified>
  <cp:revision>1</cp:revision>
  <dc:subject/>
  <dc:title>Slide 1</dc:title>
</cp:coreProperties>
</file>