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C441-70A6-4280-9877-193645CA1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19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71D4-CFA4-4474-888F-E6EF731A4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2DC1-673C-4146-A670-BB0BA60DE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55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55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19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19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19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E8F9-3C91-4B4D-8A7D-8994BD6D0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FDEF-5D64-4B1F-A355-791A56434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F54D-7CE3-4EEA-BC7D-53E413B3E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8434-DDB1-4B7E-A029-B6F44CCA9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C7EF-2A9E-4D61-A44F-8F8FA29F4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4000" y="556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9EC8-DBC5-47E2-9666-BC66FA941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3C70-74B6-44C1-A126-A1DE4A47E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AFBC-74C7-4AD4-974A-8AED1749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19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3FC0-5C9A-4760-8087-6686D1ADB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c2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7FA82-D4F5-4100-B34E-FCEDD093BD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2:55:37Z</dcterms:created>
  <dc:creator>IMS</dc:creator>
  <dc:description/>
  <dc:language>en-US</dc:language>
  <cp:lastModifiedBy>IMS</cp:lastModifiedBy>
  <dcterms:modified xsi:type="dcterms:W3CDTF">2007-10-24T22:55:59Z</dcterms:modified>
  <cp:revision>1</cp:revision>
  <dc:subject/>
  <dc:title>Slide 1</dc:title>
</cp:coreProperties>
</file>