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F501-CF0F-42E6-910E-C05EFDE8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0924-E06D-4B72-8B06-6121C9CE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51D-0A4A-4A09-A6F2-2E482604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4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4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1EF-8B37-4B0A-AC54-EFB45D3C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AA5C-1CB3-419D-86F6-CAD5B9EF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3E0-48D1-4887-B2B4-B343FF1A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0C51-2FE3-4CB6-8539-5D99F610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063-A851-40BA-AED5-31885005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340920"/>
            <a:ext cx="692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D513-66B7-4D8F-8338-1B451DA0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AD3-5DE2-4CF1-9A2A-AA55909F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44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E93-F9D8-471C-8B1E-088AD448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44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64320"/>
            <a:ext cx="7715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10FE-9060-40F9-B7BA-EFAAEB1B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a1d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13C3-DADA-41E2-93D0-D9CB0B4ED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a1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71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50:04Z</dcterms:created>
  <dc:creator>IMS</dc:creator>
  <dc:description/>
  <dc:language>en-US</dc:language>
  <cp:lastModifiedBy>IMS</cp:lastModifiedBy>
  <dcterms:modified xsi:type="dcterms:W3CDTF">2007-10-23T00:50:09Z</dcterms:modified>
  <cp:revision>1</cp:revision>
  <dc:subject/>
  <dc:title>Slide 1</dc:title>
</cp:coreProperties>
</file>