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B9B6-E7DE-4DA6-8764-DD7AF8287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71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6920" y="3964320"/>
            <a:ext cx="771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F647-195B-4036-9ABF-41923C924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692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044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B8BB-B3D5-4962-A1EE-AE86B3396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54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0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692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54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0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033B-CDCA-41CC-BB9D-B233F7C72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D962-1E58-4B66-9CBC-D7C63A39E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3F6E-2A64-4523-B528-832D7AE21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577E-C46F-4C29-BE4C-68EB478CF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01D7-7069-4A17-BC9F-E4DBEA2A6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5280" y="340920"/>
            <a:ext cx="6923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443B-D4C3-479B-A725-B63DE85B6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692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AB7B-6CD0-42A5-B211-6928E2B0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044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AC0D-6F60-455C-8050-B2C19BCD9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6920" y="3964320"/>
            <a:ext cx="771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AC5D-6664-467C-AF42-946F75C73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a1d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41910-A9DF-46A8-B80A-ACD1BFD2E8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00:50:04Z</dcterms:created>
  <dc:creator>IMS</dc:creator>
  <dc:description/>
  <dc:language>en-US</dc:language>
  <cp:lastModifiedBy>IMS</cp:lastModifiedBy>
  <dcterms:modified xsi:type="dcterms:W3CDTF">2007-10-23T00:50:09Z</dcterms:modified>
  <cp:revision>1</cp:revision>
  <dc:subject/>
  <dc:title>Slide 1</dc:title>
</cp:coreProperties>
</file>