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A280-34F8-4968-BDEF-D171B2559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06CB-49AC-4748-845D-0016A820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E69F-290D-4640-AF21-2D8B85460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54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54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08C9-0230-4DFA-B651-9D5A5F879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AA5E-46D1-422A-9AC9-A2744777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1EC3-4A42-4347-8DA6-1EEEB25D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D0F0-1406-4D90-98F5-9D46A0A5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461E-2B50-48AF-89A1-40BF1BB2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340920"/>
            <a:ext cx="692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E26E-8243-4793-95D9-BA15148A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59E3-012F-46D3-A896-1728074E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DD4E-7249-4934-86D2-1362B772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82C4-775B-4314-9A09-CF7B18DC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1d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4B9A-1D85-4B40-B79A-8C4B0C512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50:04Z</dcterms:created>
  <dc:creator>IMS</dc:creator>
  <dc:description/>
  <dc:language>en-US</dc:language>
  <cp:lastModifiedBy>IMS</cp:lastModifiedBy>
  <dcterms:modified xsi:type="dcterms:W3CDTF">2007-10-23T00:50:09Z</dcterms:modified>
  <cp:revision>1</cp:revision>
  <dc:subject/>
  <dc:title>Slide 1</dc:title>
</cp:coreProperties>
</file>