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CED43-39CE-4CD3-873F-16C929DBA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43588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50560" y="3668760"/>
            <a:ext cx="843588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A3897-6BAB-47EB-B504-0B92A58DB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5056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344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6B935-6ED9-411C-ABA1-1619E1BB6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02840" y="98100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55480" y="98100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50560" y="366876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02840" y="366876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55480" y="366876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FB160-D110-46E9-B6F6-4F27F18F5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B1DAB-9AE8-43AB-9917-951A6961B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50560" y="98100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E0DBE-9735-4B89-998F-5D9C2BE91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02D29-5FEA-43A4-877B-3D136CB47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8C3B0-F68A-48FA-8D6B-1C603C25E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ACDEC-A979-4F7C-9528-9B32FCDBC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-17640"/>
            <a:ext cx="8447040" cy="36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3DCCE-2EE2-4D2D-B49C-A51010953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5056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15006-B801-42ED-B8E6-13F06D9AD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50560" y="98100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35827-4D5D-41C8-8A9F-448F8C6F8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344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DFE96-B16C-4FFA-85DB-550DC176C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50560" y="3668760"/>
            <a:ext cx="843588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79A24-2B3D-4127-88D4-016E9A609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43588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50560" y="3668760"/>
            <a:ext cx="843588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30C94-3C4E-4A90-823B-3B5C9BB9C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5056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344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59D53-2202-4842-A266-97C2BEAF7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02840" y="98100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55480" y="98100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50560" y="366876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02840" y="366876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55480" y="366876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35C7B-E98C-47E1-A9F3-09A695DDE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76D2E-F45D-4BD1-9CF6-ACF7FB76D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4E41A-AE00-4C06-A441-D72CDFC93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ADCE7-848C-4876-9F41-90A4981A6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-17640"/>
            <a:ext cx="8447040" cy="36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7262D-E23B-4981-8087-39206F669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5056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8BFCD-D871-4AB5-A031-BC29B7DA3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344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B4C72-BB08-4ACB-9B4F-2010716CD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50560" y="3668760"/>
            <a:ext cx="843588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2A24B-F69A-407B-975B-20003E8AF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50560" y="98100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06DCD-AB38-492B-9F4E-74C3948581F4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1557000"/>
            <a:ext cx="547200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5A090-F0D7-4E89-8489-10B102CE3D27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32000" y="1557000"/>
            <a:ext cx="547200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66920" y="3715920"/>
            <a:ext cx="5510160" cy="9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4T17:39:54Z</dcterms:modified>
  <cp:revision>22</cp:revision>
  <dc:subject/>
  <dc:title>Slide 1</dc:title>
</cp:coreProperties>
</file>