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AF76-3680-4006-ABFC-AA341392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5C0B2-C7CB-4E68-9B5C-C032EBE0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6813-B95D-46E2-A944-3B038A815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5C6D-69ED-4D64-A7A4-4CD879E8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ADC3-9179-4A98-8889-B507594F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1E38-33DC-401A-ABEA-62A77515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E034-5BC4-4FCE-A177-86BC8592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493A2-711E-4957-8B56-C3DCC5249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19D1-A724-4C26-A6A3-EB92567CC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1C0B-44D2-4BC1-A816-09EC86D55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A3353-76E4-4601-B4F4-2B89A8BB8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6751-101E-48BA-8D5C-FF578E51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1A94-2690-43CA-B843-059D7B31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3FF4-66D4-4F2D-9351-668AD937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75AC8-F511-493D-A5C8-92748C052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A8D3-5163-4A6C-87C1-E7FA2D875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0284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5480" y="98100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056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0284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5480" y="3668760"/>
            <a:ext cx="27162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52A06-695F-4CC9-A3D9-3367D868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019E-CE18-4579-AEF6-D08D58EF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DA34-9938-43ED-BB8F-50A92AEA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DF9-531D-423E-BEC5-3C75B664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-17640"/>
            <a:ext cx="8447040" cy="36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827-E02A-4FDF-9962-D182E86A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009-B500-40ED-ACC9-152DB587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3440" y="366876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D58-A208-415F-8D0D-555361BE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3440" y="981000"/>
            <a:ext cx="411660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0560" y="3668760"/>
            <a:ext cx="8435880" cy="24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86F-D2D7-477C-A22E-D5D48D5E5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DAAB-6F99-4D9C-970C-FD4A78A01E3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13D9-B456-46CC-B32D-9316B50422D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2000" y="1557000"/>
            <a:ext cx="547200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920" y="3715920"/>
            <a:ext cx="5510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-17640"/>
            <a:ext cx="84470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9:54Z</dcterms:modified>
  <cp:revision>22</cp:revision>
  <dc:subject/>
  <dc:title>Slide 1</dc:title>
</cp:coreProperties>
</file>