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D3C71-F1D3-439E-8A3E-B9BDC59E6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50560" y="3964320"/>
            <a:ext cx="843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1B2E4-10E7-4D96-9004-ECB4E6C97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5056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344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DD97D-571A-4ACD-8425-321AC9355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02840" y="160020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55480" y="160020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50560" y="396432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02840" y="396432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55480" y="396432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97E09-993B-4EE5-9962-F945B5BA4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55633-9CA1-4B86-A942-15265ACBE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76A27-B90C-45F0-90A0-85A5EA3EC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607EC-BE2A-43D0-9874-A0D68C997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7B1EC-4FFC-4E62-BBEE-346BD2886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A821E-A785-4897-955D-E2BA097ED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59920"/>
            <a:ext cx="8447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E934D-3B6D-4131-BE0A-ACD5B621D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5056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0E074-411B-4972-A094-7C0328AFB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72F78-43F3-4FE1-8091-5A14464C0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344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55D55-9CAA-448C-A39D-B1784413A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50560" y="3964320"/>
            <a:ext cx="843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98580-C088-486E-9060-8EF4625E7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50560" y="3964320"/>
            <a:ext cx="843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CE268-53D3-40E5-8A9D-9DC051F1E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5056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344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C6083-1AF4-4E96-A7F3-7E70A6CF6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02840" y="160020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55480" y="160020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50560" y="396432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02840" y="396432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55480" y="396432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2851E-EAC7-472E-9C72-531B9C73A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6D762-4FC4-4E8C-A02F-256795530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57A62-AA15-4C5B-B8F8-EED1D56A4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C070B-23D6-456A-A1AC-35D01E406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59920"/>
            <a:ext cx="8447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42FFF-909C-4383-BFB8-C9932DA86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5056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489F3-ECDE-4F85-8A92-8A6E18E2C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344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6B45F-E901-4371-9F4F-B6C7D34BE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50560" y="3964320"/>
            <a:ext cx="843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8DC5B-C48A-4C60-869E-F59B83C7A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7C408-8FBA-43BB-AA35-F7057C91D620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1557000"/>
            <a:ext cx="547200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C89BA-E8EE-4FF4-B75B-124D53386700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32000" y="1557000"/>
            <a:ext cx="547200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66920" y="3715920"/>
            <a:ext cx="5510160" cy="9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7T13:14:40Z</dcterms:modified>
  <cp:revision>23</cp:revision>
  <dc:subject/>
  <dc:title>Slide 1</dc:title>
</cp:coreProperties>
</file>