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B116-E325-48A8-B887-73027F1E0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1EAE-99C7-41AD-97FB-1C814EB2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D6AE-6E02-4298-BE4F-EB0E2EF7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6AAB-A834-453E-BB9E-CD059FE04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1972-B765-4AFD-B9C5-A41BF888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64CC-883D-4EAD-A248-6BD0EF57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D947-9AF2-487F-A17B-BEB4E119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DEAA-CF52-423B-AA61-D6C1701B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FEAC-BD16-4A0E-B836-861F6D47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F1A18-53E3-47EC-9E00-44DAE7540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EE1B-CB58-4ACF-B9F1-42E8DC7F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3651-2DFA-4FAA-859F-B4283D62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2B750-3945-4CC7-A88D-A709E882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16E4-71DF-4FA0-ABBC-894581CB3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9006-D634-4481-8A9A-E0C8AB8EF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12F2-3FCF-42FE-9B8F-86CC4019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160020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964320"/>
            <a:ext cx="2716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39D7-D938-4AF7-8FA9-40B8CD5C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C54E-DED5-4FDF-BB18-82CD5196A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3EC-4DC7-4D4A-8DFE-CFD090A23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2131-886E-4FB6-A2F2-A9B8B8EF5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5992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CA52-002B-4002-A7E0-1303CA8A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C214-8243-4D7D-AEAC-0CB765FE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96432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8DBB-6F92-418F-AF0F-D05C95C1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1600200"/>
            <a:ext cx="4116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964320"/>
            <a:ext cx="8435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5497-0D93-4907-A291-D770E4142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7527-1088-494B-9764-B359B5DB498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8E89-B473-4454-BCC4-36653391674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5992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4:40Z</dcterms:modified>
  <cp:revision>23</cp:revision>
  <dc:subject/>
  <dc:title>Slide 1</dc:title>
</cp:coreProperties>
</file>