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3FF6-123B-4187-B763-FD64B8CDD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9E3F-4801-4735-B826-F20800A0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008D-43EE-4709-A3C7-473F9A9C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33B8-5366-400B-8C69-C16675473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91B0-91E0-4981-953B-7B21DA863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8E92-8EB2-4670-A83B-9F1963CC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E766-7656-498A-AAEF-40C81E4C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C2BC-533F-4653-A0B2-51B11DD9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5D80-01BD-4163-BC7D-A201DC3F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3EC7-6E56-4766-AABC-AF8F9FAA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ACD9-E551-43F2-9F57-7E8631FC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39B4-D75E-434B-A498-DBAE405D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6B3E-0FBE-42BF-9B28-5F357641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589D-74B4-4B72-B002-1C9D98D6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E590-1429-4004-93ED-840261CE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2E88-07EA-4698-AAD7-042BDEEF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1F05-2BB7-49FC-989E-428D8C360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AEC0-F962-4F72-A348-6A0017A0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BECF-8611-4159-B351-FF12C3CB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B0B1-D405-4634-A120-4645FE0A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EF8A-6C3B-4632-B694-03E45470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16A1-11FE-4E80-B03F-724B2F64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F979-E79C-492B-BDF4-B07C6705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C061-F730-4D10-979E-82727DA6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0392-88FD-47A1-B239-76CD48919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ECA7-1DCA-481F-AA0E-D195752F1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5:17Z</dcterms:modified>
  <cp:revision>19</cp:revision>
  <dc:subject/>
  <dc:title>Slide 1</dc:title>
</cp:coreProperties>
</file>