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C5A0-2158-4CC6-A3E0-EBA3AAEB2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B957-5E65-4AB3-860A-F39B032A7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A3A1-2196-4E7A-862B-A854FA7F1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984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840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7128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984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840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9A84-EE12-4893-945D-DA5881703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06118-14EC-4D2F-A330-4570D6808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BA541-06BC-49C4-855B-514B717A7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632BD-5F4D-4215-87E8-1CD9BE742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6E878-EA24-4C8D-A4AB-1987EB671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FB1BC-7C02-4F6D-8443-E9B9FE423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71640" y="-24336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7357B-7E4C-4378-BBF1-3A9C9CC13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06657-8FF9-4F86-9C5E-078466357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6F3A-F680-45E6-A04E-E10308D65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A7B86-A704-4460-912C-BE73A4DF3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E3736-FAC8-4087-B7CC-F97CFA784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6B16D-DC24-4265-B845-F2A7193BF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0FF4C-FD18-4E71-94C2-B17DAFE60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7984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8840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7128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7984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8840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79F02-93DE-43D0-B435-8A8657F51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EEC0-31E4-4F90-B439-F66D66402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3781-866F-4361-A776-FDCD41F35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006F-6161-4FEA-881A-CBA6E4767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71640" y="-24336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637F-854F-422C-BFEB-E19464AC7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2CCB-59B1-4EF5-9AA1-DF1CA11A1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D7FC-45CA-4A40-B1D0-DEC582BC3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B20C-0A39-4659-9C6D-141DB6484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DDA94-8CB9-498F-8900-92CC4A43D8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2F73E-5A35-451C-9AA0-EA7A8A8DB5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920" y="3715920"/>
            <a:ext cx="551016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35:17Z</dcterms:modified>
  <cp:revision>19</cp:revision>
  <dc:subject/>
  <dc:title>Slide 1</dc:title>
</cp:coreProperties>
</file>