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AF16-0E1E-4927-BB75-A535B32A7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8522-69EA-4E59-BAA5-35BF422B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934E-5989-49B6-9084-3716E4DC2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C572-1204-4876-8C15-E65003778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AEA5-7E27-4715-9077-F5C199D03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EFE0-B075-4BD9-88DC-56A0B784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959E-AF73-47D4-B3AF-439B0B4F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44C3-C251-4800-A5F8-ABD959AD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5F3E-305E-4C89-A68D-017EB7CA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E14C-27C8-415C-AF2F-40203FD5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FC96-36E6-4EFB-87CC-4DB25447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4D7A-5F86-46A6-A1CF-B8F59C49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5742-38F9-4C3D-9D96-CB27C4E2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4867-99ED-4193-8E60-FBDC82A2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5A1E-7743-4310-B515-BF72EE06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6363-2504-41EA-B2E1-329FF35BC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DA65-2FC1-4E65-9117-6D5E64BEE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E102-2986-4873-8D54-42FD0B47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456F-B36D-41DD-AC9C-8666333C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FDF2-2BC4-419A-AFDF-CCB014C0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04E9-08B8-4FFB-BDEA-B283BC3F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486F-9D11-4180-91D7-7367520A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BD32-4FE2-4C47-BFE9-E0FC292D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E2EB-A09D-40E7-A093-5C243CA5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9D93-B651-4165-ABA3-8DAFD7C0B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7C39-BFB0-4AF0-BCC7-432EB151C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95280" y="3715920"/>
            <a:ext cx="66243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8:54Z</dcterms:modified>
  <cp:revision>19</cp:revision>
  <dc:subject/>
  <dc:title>Slide 1</dc:title>
</cp:coreProperties>
</file>