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FC80-6161-40E6-87DA-63792531F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B932-E16E-4217-9944-72E7713E8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C945-871B-41BC-AB34-BACB6752E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9533-D14E-4F73-9DA9-3D406BD74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903CB-8FB7-4218-8555-306ED7B84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45E33-5C2F-4D62-99D9-1124D1242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CE906-450C-4847-9429-DBFE6CCFD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AE233-2ED9-4A4D-832F-ADD81D495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B5D7E-843C-45A7-9B58-D40B0CF1F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51E32-8B36-4D87-A165-F02102EF8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3C412-E898-4457-8525-37E74B6A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168D-0F90-49E8-95F5-4A92A36EF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587AE-FDAD-4F37-9D71-4AA2AAB1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33B0A-ADDC-4C28-A3C8-88B8B727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D0079-B4E0-414C-A2C1-954C2F0FD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306C3-2BD4-47D5-A08E-F2B592876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B3D2E-599B-4823-A1FF-C134D0513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D22C-8BE8-422C-B545-AF8D007FC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9B1D-018A-4B49-B268-B16AD3CEF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784F-81B6-4BC4-955E-6E16AAA5E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D685-0CA2-4C5D-B231-5A7E28C57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224E-B41F-4BCD-885F-C4105AFB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A6F1-4AA4-4173-B931-490713F1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E2E2-3C27-4E9B-8A19-5B616744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1E5A2-4DF4-405B-AF13-A13008BB37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95280" y="1557000"/>
            <a:ext cx="66243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3510D-C2A6-4DD0-81FB-734914D111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95280" y="1557000"/>
            <a:ext cx="66243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195280" y="3715920"/>
            <a:ext cx="66243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8:54Z</dcterms:modified>
  <cp:revision>19</cp:revision>
  <dc:subject/>
  <dc:title>Slide 1</dc:title>
</cp:coreProperties>
</file>