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581E-BDEF-405A-8CCA-7E15EA82D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3C3C-0FA8-4714-BA46-6220FF396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6849-AB7D-42B5-928F-027203A0B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2EC9-974A-4C6E-8057-CD08AEF4D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7CBB2-FE32-4834-9E6F-017A57670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CC649-4036-4859-AE36-7D8366D26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61781-A06E-4C91-96AC-0A64D3BE8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36308-DDDF-4331-9495-9E88E9C9E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30787-9921-4F16-B0A7-54EDCDC75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5D17F-71CF-42DD-A06E-3E616FFD3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BB92D-D702-4989-B568-6BFC0784A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3C4B-EE74-4701-852E-98C69C8CA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933E4-5FA9-4CC0-A3FF-618CD4466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F995D-F7F1-4B72-8920-772BA6268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0E0DA-9F8A-4E5D-975B-1A0F1AFEC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88347-70C5-458D-9298-D9A04D806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F8E25-A3D7-478C-83A1-42F02C4E2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CB0C-ADF1-4B0D-9247-994831DF9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42AA-5378-41A7-9D3B-BF2F067C3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2E78-D863-44DF-85AE-A9DB73EB9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7504-C7F9-4D31-A24B-CB7EFBDE2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B283-2960-4C7C-A149-DE5234329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A5C0-7A33-43A9-A519-DBCF90906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DCDF-B553-4DBB-BA68-9DFBBB578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30CC6-4580-41DB-8CA5-33D354EE96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352728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4A5B4-F052-474C-86D7-47AE391AA9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352728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715920"/>
            <a:ext cx="3205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2:46Z</dcterms:modified>
  <cp:revision>18</cp:revision>
  <dc:subject/>
  <dc:title>Slide 1</dc:title>
</cp:coreProperties>
</file>