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6C25-284B-4C52-89A3-522E52339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198-ACB3-4573-BBF0-1714989F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344A-A9E7-4460-8F28-81C1D2726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FA96-35A0-47E9-822A-07D0EEAD7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E00F-6CCF-4FF3-A248-1CC53E5D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EE78-43C4-4D35-B8A7-1EC12E8D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D0408-CEC2-49B8-BF80-60274B7AE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07FF-2BFA-46CB-B1CD-2B59C94D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15DE1-8CC8-4535-AFEB-A873AE32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58553-9BE1-48AC-932E-1DFA2773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C086-DA5C-4DA7-BB57-C32B41D9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8BB4-8B0D-473F-9CAD-7CCD4CED3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81744-7348-4ED1-A4EC-A666F8313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76B2-34D3-4CC2-AE80-D811841EE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BD4F-5612-4D7F-95E6-D74CF1F9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8B539-1A03-4728-93B6-0B167246F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7984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8400" y="160020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7128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7984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8400" y="3964320"/>
            <a:ext cx="2484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6576-7563-4E63-9524-AF3D54853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3FF-D03E-48FD-B770-1BD2E7BA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A82C-F59C-4CDE-9488-82962BB3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262-5FA5-49CC-B308-F75CEFF5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71640" y="-243360"/>
            <a:ext cx="7726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29E-39A7-4F43-98F0-3CAB8FF3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9DA3-1006-4073-9876-7B87C5DD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4800" y="396432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DD6A-7BF4-49D7-A0BD-5DEC9CB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600200"/>
            <a:ext cx="3764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4320"/>
            <a:ext cx="7715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0D56-BCA1-4A18-B7C3-0BAD180E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C456-A12C-4AF6-AE5E-07B465E49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56AC-DCE5-468E-BA2E-869632A7A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352728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715920"/>
            <a:ext cx="3205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71640" y="-243360"/>
            <a:ext cx="772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71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2:46Z</dcterms:modified>
  <cp:revision>18</cp:revision>
  <dc:subject/>
  <dc:title>Slide 1</dc:title>
</cp:coreProperties>
</file>