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2C35-7C22-48EF-BFEF-97A6E2B0A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74A8-BE3E-4117-8887-AE28C45DB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532B-4E84-4928-AAA9-32F2C757E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132F-9FEE-45A7-917A-EBD9048EF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84C4B-2FED-43DC-A4E9-80FF13356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448D9-C07E-416B-80FC-92AD8CDED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7B4C0-3DD9-490A-9504-527B54699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0025B-02BB-4EAF-91BF-FB2B8DB3C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80429-44C7-4DA4-9380-B5BF5BE80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4BE02-51EC-4B4D-A030-788993841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2F5EC-CA55-491A-9026-DEBE497C0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727D-57A9-4465-B526-508DDDCA1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9E0B1-08F9-464B-8663-02E41719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AD7A3-EF5F-4EFF-A9AF-84AC730C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7DC15-DCDA-4582-B3DC-7A97D4567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0256D-7DFF-40EC-894A-92B8599ED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C09F5-A93C-42FB-8AC6-B1AA3AD7D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0BEB-3F8A-4366-A4EB-1ED9FB54F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9103-31CA-4DE2-B7E1-A3BDF0564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1FC1-DBE6-46B6-9021-B5D08D169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8275-8F3A-4E33-B106-67AFFDBAB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94A4-EB5A-40D2-AE90-16AC0087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B173-68AA-47B8-81C6-EDBFFC5E1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0621-F6C9-416C-BF47-1CF450C50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EDD50-2540-4A4E-885B-33C5BC14F57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03640" y="1557000"/>
            <a:ext cx="4821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2AB0E-25C6-42C2-B347-B0E9C61704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03640" y="1557000"/>
            <a:ext cx="4821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203280" y="3595680"/>
            <a:ext cx="482436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0:50Z</dcterms:modified>
  <cp:revision>20</cp:revision>
  <dc:subject/>
  <dc:title>Slide 1</dc:title>
</cp:coreProperties>
</file>