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A7F5-62E0-4D5B-9FF0-399883747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E312-09A2-41A9-B2FC-A1F141417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1541-6E44-4462-9A7C-98C558ED0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6D5A-1165-4206-ADB2-4ABFF4F16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7AFCD-4D19-45FE-8855-35D000F38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23782-7CA9-4848-A961-FCBF20A33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CFCD9-F256-41C8-86FB-B3D3BFC8B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0B324-6582-4F83-912D-BC0117124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E3E36-6D3B-4613-9E5A-AB44215B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99DB1-2B33-41B4-91A1-CD1FCD73C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A3E42-FEAA-4272-B919-D34F273B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35B6-2485-4F28-9FE6-D94F6EC75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9B528-3A62-4FDD-8867-39346EFA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0900B-4EAC-4DF8-BD92-7CE15D17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FFD59-9A4C-4D13-B9FE-DEBBF892F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0ABF1-E1F8-4766-9BDE-87A1D4CED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C9C87-38DB-4F1B-972C-F04C98457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97C4-EAFD-4A96-9D6E-AB133EBD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0557-DA2B-4425-8A28-165F9F071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107A-03CF-4E8D-84B9-4433190D8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310B-C1CF-4C1F-813E-0939842A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C5B1-59C0-4AB6-82E8-90654E92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E942-D0ED-400D-869C-7EB5D934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A84B-B688-49C4-8A67-5205B25A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BBCF4-B188-48CD-BF10-4EEEE745E87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03640" y="1557000"/>
            <a:ext cx="4821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DF758-E19A-4E77-B423-B67B217BD9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03640" y="1557000"/>
            <a:ext cx="4821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203280" y="3595680"/>
            <a:ext cx="482436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0:50Z</dcterms:modified>
  <cp:revision>20</cp:revision>
  <dc:subject/>
  <dc:title>Slide 1</dc:title>
</cp:coreProperties>
</file>