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5A37-DEBC-406E-9EB0-2FD721FC1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EB3B-A1CE-4961-95B4-B4EDCBEEA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4C89-611A-4E1F-95DC-CE74A5348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6770-F503-44D7-A20C-D87C45C53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A8DEB-F13E-485E-96BC-BBE699CE5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2702E-EC13-4DE2-BB2D-DE13D8B2D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053D6-C2CB-4636-95A2-72FB27A03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53F4D-2048-4B7E-B413-3FA2ABB64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274D0-5F8A-4ABE-8493-CA28B719E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F5269-FE90-41B7-BC24-E36978DAF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C7A88-00FE-42AE-9A16-2A2CF2CAF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6834-9CBC-43C5-A84E-41C383A88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6F2D5-DBC0-4DB2-885A-D1E947660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2192C-5042-4CFF-B409-D375C2D74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AFAE3-42B9-4672-A2D8-7F2E386F4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11E74-773E-4097-B778-412BC01FA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7D46D-DABF-46F6-9C45-631090063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7193-C973-47D1-94BC-054175C3D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1483-CD2E-4998-85CD-D1169531A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13CE-5C83-4FC9-B2EA-6B8A35BF2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82A2-A628-4BC5-B994-905D60C4E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FC71-D0EB-426D-B724-D3342CD03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1C16-CFB3-46AB-9ECC-C46FC4F4E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D99B-0970-49D0-AE3F-CCBBFED4B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B9167-7AEB-4DAA-B530-470273401E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1640" y="1557000"/>
            <a:ext cx="66927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AE3FD-5358-4C79-9277-150FE5C855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1640" y="1557000"/>
            <a:ext cx="66927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560" y="3285720"/>
            <a:ext cx="666108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29:04Z</dcterms:modified>
  <cp:revision>18</cp:revision>
  <dc:subject/>
  <dc:title>Slide 1</dc:title>
</cp:coreProperties>
</file>