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B904-9D0F-4227-95AC-8B8B6274A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2729-5B67-4E9D-9F32-07712E47F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F212-42DA-4EE0-A7F8-47FAFE347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D7D2-B33B-4BA0-ACB5-1CF6C2E29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5D8C6-0234-4BE5-A7FC-6B5863F5D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CBFE0-C54D-403F-9657-8A19552B8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19B7E-409B-4522-BB98-D5E1A67CB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23E02-1731-456C-B6C0-2AA813D70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D1CD0-F89A-4FAE-91E8-EF9CB48DC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7A256-DBA1-40A1-9E9B-71F9EE2E7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B8653-8C81-4DC6-8B7C-38788B90F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431E-1E84-49E7-B745-5FFDE4868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93F97-74AD-4B1A-9F94-2218F54C9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C5198-309C-41E4-B652-3FDE4987B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0D297-6055-4FB9-B8D7-C0816054A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D31ED-503E-4EBA-9A58-578C18D53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F4547-E94E-46E0-A349-E3DD0627C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8203-C1A1-4E0B-B827-5540FE381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0C0A-AA5A-4214-8CF9-63A6430CE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718D-06F6-4394-9086-3CA2CB957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18F3-5242-49D3-BF69-1E54E1E67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B0B2-08F1-4331-B612-520FA6653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BB85-C025-449A-A6E4-AAE39A4F2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10AE-662A-43B5-8B24-EE793673C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B111C-98B4-407D-A1E8-F9EE88BCD02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1640" y="1557000"/>
            <a:ext cx="66927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A556A-8DB3-4164-A12B-8F25A89994A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1640" y="1557000"/>
            <a:ext cx="66927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560" y="3285720"/>
            <a:ext cx="666108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7T13:13:44Z</dcterms:modified>
  <cp:revision>18</cp:revision>
  <dc:subject/>
  <dc:title>Slide 1</dc:title>
</cp:coreProperties>
</file>