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16A61-8236-47BD-BC3A-4E62F5079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F308F-AC7C-470B-B93A-65F30CD42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27C03-A6CE-4D36-9833-59179E9AB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F8495-1B3C-41C7-BE8E-0D5A78545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0E398-9E7C-41CC-8FEF-D05B46CE5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142D3-2A09-43D5-9595-4DFE2E610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3AA50-941C-4673-A162-266A31DF2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354FB-9A89-45C0-B2BA-13FA0480B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70A57-AD45-4E16-BEF9-D63294E22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360" y="-243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32E32-FB61-458E-BAE0-D501D598C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FF697-B704-4E27-AA83-385E803E3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7205E-E95B-4E21-B2C9-DD560A2BF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0E9AD-92BF-4CB5-8947-9279258E9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D5602-A1E9-4B4D-85E4-D7ED24991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E7FD6-E530-40A1-8111-ED6E1267F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5F3B2-8F5A-463E-8F50-E29B9DF70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CFE39-DC13-46E2-ACE5-30BDD5A6C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0E9A3-3A9A-4461-B85F-E369511C9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895F4-A813-4F89-81C7-CE16E18A6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C2C36-25FF-425C-B94D-1B2CDB6DE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243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AF0C1-95D0-429E-9BDB-EC8F46C3D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7DB17-5161-4331-8346-DD01DA057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5D27B-D149-4C19-921B-D97606559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A2AD6-6810-4A51-A3B5-5927A655B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B7A4B-0362-4ADE-AABC-60849ACFF21D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1640" y="1557000"/>
            <a:ext cx="669276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AF935-6A6C-43A3-999F-3B0B0FAF9BF2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31640" y="1557000"/>
            <a:ext cx="669276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66560" y="3285720"/>
            <a:ext cx="6661080" cy="9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7T13:13:44Z</dcterms:modified>
  <cp:revision>18</cp:revision>
  <dc:subject/>
  <dc:title>Slide 1</dc:title>
</cp:coreProperties>
</file>