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5D9C-2B05-42F8-B992-B446B9801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B234-5922-49C7-9727-A31BC7BB1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5257-BF3B-4A7B-A2D3-D99AF66E8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57D6-2730-4F29-9232-10DB488A6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AAAE7-3453-46AC-91C6-89316FCF7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A0AB6-A7BA-44CC-827C-4BF138EAA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0281B-F13E-4BCD-BB06-558B191FF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60200-F1FC-4912-A6C7-FAF88EDCC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C17F1-7A93-475B-A5E7-6816C9BF0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8CCB0-049F-44E9-B1A4-B612D960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DACF2-A23A-47FE-B4BC-5BAC0F6F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BEB4-6F49-4C02-95EE-5DA19B5AD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0BED2-A210-4622-9C97-74AEE2AD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982BC-FFF1-4760-84D0-7552447E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0C5B0-B47A-4F8E-81BA-14F5DBF0A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0B03C-721B-412E-A7E1-91EDB056B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5D916-B1BA-4B66-A55F-1AE8C6FE3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3EF0-F4FC-43A2-9B9A-E2CFF5074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0965-98DB-4EBF-9069-237A269C0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F794-C784-4EE8-9CF7-A5051B397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7F1F-CC69-4A15-9DED-CAE215A93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D56C-EB46-4824-A4AD-B9EC2F77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C650-E15C-4078-AB1E-1A318DD9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B66E-8270-4892-980B-84916991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C4F36-0DF1-4996-8CF3-905952F65E9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04F5A-87F7-4D69-9BAA-8B596F08B1A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3:44Z</dcterms:modified>
  <cp:revision>18</cp:revision>
  <dc:subject/>
  <dc:title>Slide 1</dc:title>
</cp:coreProperties>
</file>