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B6D5-433C-4A0F-8C25-2B408131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2106-1155-4671-A3B6-AB9C9A10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9959-791F-4FCF-BDF2-742345CF1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4DC7-0F16-419C-A48C-66779DAB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8B10-80F8-4ED8-ADDE-5B5632D58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5801-BA2E-49F6-AFEE-C1103D13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3D37-34A5-444C-822C-2BF847CD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CB57-A7B0-47C2-9883-5A4DA72F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3322-743E-4D60-B16A-D5C6F187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A28C-EE11-4EED-810C-B0811F34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4D5F-7793-4D8D-A1A0-BB9123AB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9F99-7B64-400A-A290-5F915CDF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81F9-3906-48F4-9EF0-0BB160A3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0913-EBDB-464B-A1E5-DC1915F7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B0E6-D057-4C05-9441-F450E3F7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AB95-043D-4DCC-9205-5CB37694B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CAF0-24CB-414C-89F4-9F877E97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694C-C642-479D-B1B2-CF75EC95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B838-9233-4197-9F2E-BBF3D3B8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BF38-C89F-4F01-AAD0-6B422970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528F-5609-4AA4-898B-0F5B6481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D1E6-EB52-4778-B735-C119713C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9B87-44C5-4465-AA04-E012C56C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F46A-AB9C-4BDE-BAEB-F7E8EA01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4AFE-4042-45EB-BB37-60B7B5D08B3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5B6D-4B12-4384-B3F3-EB6A1246AB9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3:44Z</dcterms:modified>
  <cp:revision>18</cp:revision>
  <dc:subject/>
  <dc:title>Slide 1</dc:title>
</cp:coreProperties>
</file>