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E5FC-0AA8-4712-9654-405188D6F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F414-6036-4282-89E7-BA23BA03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92BF-4C85-465E-B01E-C58B90336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8052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340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764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8052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340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075A-5353-4E4D-95F5-00E622A1E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4718-1F50-4F0D-80AE-11B7AC1E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448C-11D7-409D-A5FD-16A26024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1347-8E82-4623-B990-F9E5AA0A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DF54-A481-42BD-B294-6D28A4B0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0" y="274320"/>
            <a:ext cx="561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A6F0-7E12-460A-881F-0F32CB98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14F0-AE4F-49C3-9F0A-5EEC36F2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2FB8-B51D-49AB-B095-C717D44F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8FEA-BB29-4E54-9058-6129D4C3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f2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3705-019D-4996-96F8-D16776701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46:13Z</dcterms:created>
  <dc:creator>IMS</dc:creator>
  <dc:description/>
  <dc:language>en-US</dc:language>
  <cp:lastModifiedBy>IMS</cp:lastModifiedBy>
  <dcterms:modified xsi:type="dcterms:W3CDTF">2007-10-23T00:48:52Z</dcterms:modified>
  <cp:revision>1</cp:revision>
  <dc:subject/>
  <dc:title>Slide 1</dc:title>
</cp:coreProperties>
</file>