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D4B6-2C5F-4758-9FC4-D99000A92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2F0C-CB28-4A94-B280-3EDBE735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7FCB-4C56-4BC5-8D7C-E0B1C2278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71AF-E6F1-48CF-B434-A7486C591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066D-772D-4802-A33A-6F28151DB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8273-712B-4811-9C4E-6E438A65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6B46-7387-49A2-9E28-C98BA253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B1B7-BCCD-4049-A461-2A604B18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68A8-3BA9-4737-9926-A030E6A0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B45F-5E65-4C4B-A0BA-E3463C2B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9473-8312-4E37-85D3-1749CAA7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AFE2-5095-4941-AFAE-17590ED2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69B5-ED9E-4388-B8E1-87CF161F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41CE-474C-4970-A0CB-2504B866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0144-4D6E-47E7-B9D7-E81F327A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15A9-1CAC-4D61-A2EC-9103FEB0F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BBA7-65D0-49BB-8192-FA63449D1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860B-9845-4BA6-838A-83439E71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5E68-C2CC-47B6-B3F4-EC0DCC82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2744-86F0-4A9D-8896-B43D9B0A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9DAB-A682-4610-9499-BA849E41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6A92-0C08-424A-8297-3605E758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1327-9D9E-42AE-B3A3-A015E5D8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D4EA-2169-4ECB-97E7-02BE6980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876A-0F4C-4080-A690-2CE72DB1D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8A73-82FF-4645-A2C9-4C3C44B71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2:03Z</dcterms:modified>
  <cp:revision>17</cp:revision>
  <dc:subject/>
  <dc:title>Slide 1</dc:title>
</cp:coreProperties>
</file>