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D4A7-1B1A-4199-A798-837DD3BB5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C9D3-FFBB-420E-8A3E-9FDF5B5B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F3DD-8C8E-4873-ABF3-6ED4A179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A053-BB9F-404B-831F-9658949AC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8E27-5376-4CAB-A75B-1432184F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51DC-6356-4567-9AF3-74E54A40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0DCB-A498-41EA-BBE4-09F21BE2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0960-84F2-43C1-A5D7-1ADC693B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AC81-AD5F-4B27-98DC-C2F7A814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C8F5-160F-4A4A-AD45-462DCA55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574B-C493-4D95-96BC-F0AF5B77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C6DA-AB86-4CE8-9423-90BB28C0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F100-CA10-4E3F-95B9-D744BA54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6CBA-65F7-4541-88BB-86556A85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106D-A23D-4313-A526-ABD3A1DB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2358-C685-4AB5-A001-425EC4F51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F96E-DA58-4F94-972B-AA671B6F2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D093-746A-4420-B5F5-028086F8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BEDA-332E-41CF-B0B5-CD889049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268E-68C0-4CC7-9470-A78540F4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7D53-E782-44F6-A82F-B21C901C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2A79-C635-499A-86A7-4BB99517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5647-D28E-490E-8457-30574B86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E4AD-0824-4B18-8470-5CA09D55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8DB3-22DC-4D21-B877-BF28EC10CB6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4658-D2FD-4121-835D-486AB80C2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17T18:49:04Z</dcterms:modified>
  <cp:revision>15</cp:revision>
  <dc:subject/>
  <dc:title>Slide 1</dc:title>
</cp:coreProperties>
</file>