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63AA-893D-41EE-A07C-868B92270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298D-3976-4636-B536-80256A36A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B7CF-661D-4C25-8CFB-E35B39051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4042-6C32-4252-AC97-F38A809EF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0D1C2-6F9D-4199-980E-42B6E33D0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7CCF3-B879-4CF1-B965-8A65C339F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DEAC0-0C9A-4121-8175-BDA1D6557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FAA85-77C8-4A21-BC52-6E9F1866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42251-D4C9-43D7-9E13-3CA8EB67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AB3A0-ECCC-4B55-832C-18BDAB18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427D5-255B-4137-A81F-131E206D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F4C4-C2A4-43D5-99B8-BF860E6FC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03EC0-4167-4E17-B5B8-5F4654C2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E603B-9656-4D95-BC44-D26ED337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D4850-C41E-4FAC-B66E-B0710E8D1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7988C-71DC-4C32-A57C-1304CF5C2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D1348-F9E8-4A77-8D4D-46C750613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2B60-970F-46EC-9427-669CBD046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D9DC-6963-462D-BD10-FCD5AC11D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17E8-B54D-4A58-9040-CD2DB348F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05BA-A45A-49AF-8359-1645BA2D3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0592-C0A3-478E-8B3F-CED7D1B4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7A7C-9D79-4D7B-B422-25C5497D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72AA-2CE0-42DD-8086-49E3619B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09810-26F7-4016-AF94-B78C565C06A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8DD76-996C-4C50-8C35-E4A02E19B2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17T18:49:04Z</dcterms:modified>
  <cp:revision>15</cp:revision>
  <dc:subject/>
  <dc:title>Slide 1</dc:title>
</cp:coreProperties>
</file>