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E9E84-6011-4DED-88F3-301BB3524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778DC-C030-42B5-B7B4-139D669EF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37F8D-1FC0-498E-ACE0-26654D0A0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05235-FBDB-481A-9A0E-05B4F7822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3D8A0-40F4-4FE2-989B-DAC7CCBDE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CFF13-BA10-43FA-8471-29067DE20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43645-1018-43B9-9B55-3F1EE2C20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C4236-574F-4B22-BB98-862F16821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44404-CFC2-4848-95EF-30B962B2B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3A7A1-CAE7-415B-A19D-A78FC0D35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EA678-03C2-479C-A7BF-AF79F1230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50E49-F652-499F-BF88-261038B2A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E41FD-1506-4DEB-A925-27845FCD5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9A639-CA25-427E-AA78-62A853757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40E5B-3CB3-410E-AC45-81240D964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87A49-5F07-414B-B0F3-D02F629C1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0ECAD-F660-4F58-A129-30FE0DB3A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09E68-0A73-4253-976E-2057F4E20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67551-8CC6-4017-BBFB-994810CAA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4F023-8DCA-44C0-981E-DE6081288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B6DB6-EC2F-4319-B580-E1520186F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1D78C-7A26-48C6-B249-5FAF39807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E3230-8A4B-422F-ABDF-EFD5C8F5D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15C88-6539-480F-B044-353D275C5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0C205-F171-4D84-B5AD-DE055D5C70FB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08000" y="2060280"/>
            <a:ext cx="669312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7B228-3FB9-45D2-9403-2460AEAF6D97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908000" y="2060280"/>
            <a:ext cx="669312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942920" y="3789360"/>
            <a:ext cx="6661080" cy="9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7T13:11:07Z</dcterms:modified>
  <cp:revision>14</cp:revision>
  <dc:subject/>
  <dc:title>Slide 1</dc:title>
</cp:coreProperties>
</file>