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99FB-E125-4F10-87AE-6686C2035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B507-9C8D-46EE-82EC-D2F735E2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BB36-7A27-4358-818D-75B60A0AF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10D8-D1A2-409F-B52D-7D5EE9C8C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0AE5-A7EA-41C3-B358-62864B981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6BDD-28BF-4A9F-8E60-1856BB10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1074-3DD0-489C-85D9-8A3B78E2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3666-CCF6-4597-9663-2AA8FC90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6712-4E8A-49F6-B325-608DCD46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CD2C-6050-469F-A539-0674FAD7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C337-14F4-42D2-B5BB-5C0E5C3D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A41C-B7CA-4863-9E25-BA29AB7B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16510-6E49-4610-9E83-CCD5289E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459D-FC76-40CD-86D5-1A4C520C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4374-7817-46F1-BA60-8BC82BEE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8A89-EA62-4DB1-803D-6FC2D8FE8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1457-F0FC-491C-98B6-5DE299F34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A697-166C-4F87-AFD4-7A777188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194D-06B4-4C44-9CA8-52EE9E8D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3B48-B56A-434F-BDC0-090CC32B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8B0A-AA08-4E5A-8CE5-25B893D1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8DC3-97C5-4A03-8C98-E98C0047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C0F4-CD5E-4904-8E89-9C0E9E4A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CF54-6395-4826-9471-A6B183FA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D593-4663-4A08-935B-04D3855D751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2D4E-148F-4B15-A382-7143F2A1055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1:07Z</dcterms:modified>
  <cp:revision>14</cp:revision>
  <dc:subject/>
  <dc:title>Slide 1</dc:title>
</cp:coreProperties>
</file>