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507CD-FE53-418A-A21F-DFDD05928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E19F9-08BB-4DFB-8E84-1768D3496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0B60E-8FD3-44C2-B1EE-7CE5C0E31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BDA9C-0FC1-4B4D-89F7-DA3C20FAD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47A5E-3E81-4F08-900C-122EB0A44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6EA58-A20D-4EF6-8FFD-C18EA24DB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4E0DE-F788-4804-93AF-0ED1D7BF6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FCF2A-EAC9-40B7-B6CF-35BD5BDAC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381D0-82E9-4747-AF9A-FE691A41E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90F1E-51CD-4372-AEFF-2B27A9210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C4475-414C-4F2E-B4F9-97638E124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668C1-BC3F-4F4C-A417-F6602A857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C043C-F37B-40C7-8FB0-F694E5A7B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60F15-6250-4796-8A16-492DC665B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FA01B-FDF2-4EAA-8C5C-B08B24224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D23AD-4B9C-4F83-9778-74F85855D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FC4B9-34FA-4A8A-9172-3DD6551CD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FB705-969E-4972-9A92-610D60660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98D91-1378-4096-B28A-FBE17D2DB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4A002-B778-4FA9-9859-00DAC5251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58347-E52E-4B61-8AF2-FFFAEEA22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EC677-F015-491D-A3F9-86CF50432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685E3-BE87-4236-9124-305A26D6A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D23B0-9E61-4784-AB00-953F2924B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329CA-BAA1-47E8-A7AA-66B28B7727C9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08000" y="2060280"/>
            <a:ext cx="669312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6C0C9-7765-429C-9244-C2AA2F860934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908000" y="2060280"/>
            <a:ext cx="669312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942920" y="3789360"/>
            <a:ext cx="6661080" cy="9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7T13:11:07Z</dcterms:modified>
  <cp:revision>14</cp:revision>
  <dc:subject/>
  <dc:title>Slide 1</dc:title>
</cp:coreProperties>
</file>