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7D0D-B240-4373-A1C9-26B1D1A3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E59B-C19B-4184-9847-9BBE81E6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422E-DD8F-4021-B3C9-3855372D4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543B-4F5D-4F4B-A99D-3B3600214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E85A-E4A1-4BFC-9B31-91FBDF5F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285A-871F-4752-8525-CBE1EA7D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7FF4-B428-45B1-8DF9-BB4B0DD0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9EB6-7FB3-4D86-AF8C-071E08B8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B788-D09E-4273-821C-7EFFD6B1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C4EA-EBA2-4F02-B2AB-74AE7E74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387A-9EB4-45EC-A0C3-1459C782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1E53-C692-4E7E-AD0F-9C01695B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DF6A-1E9F-47F4-BC56-852542E4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996D-CBEE-433B-91B4-4EDBD815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BFCD-D439-40E8-BF9C-EC1DFEC3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539F-745B-42A5-866C-D919F81F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AB27-6DFC-4369-9171-58C0E7BD6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79D3-F071-465E-A197-E7D23055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50F2-10CC-448F-968D-F1E42CC3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C6D5-F25B-44A0-B3CD-8B6CD106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ED09-D018-46AA-BFCB-FF8CB598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2F94-6FF2-47C9-9F10-08CDD041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0AB4-FD8A-4EB7-B168-3D862FE7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5DC0-F88E-4FDA-A300-27A5BD7F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1D8B-570C-4125-9C03-1A5EA6CD2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E68F-0FF3-41F7-AAAB-D64B7C649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0:26Z</dcterms:modified>
  <cp:revision>13</cp:revision>
  <dc:subject/>
  <dc:title>Slide 1</dc:title>
</cp:coreProperties>
</file>