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5F9E-1059-4EB1-AAC3-89D63446E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D53C-5DCE-481D-A8B7-1235E1A71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9FAE-8296-4EA2-9B3D-B08539B56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3805-655D-42BB-90DC-60C6E619E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2255C-0F7A-4BA2-8620-E2210124B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145D1-D8DE-4FE4-9C94-49BEEA42F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DE2E6-92A8-463E-902E-AD01D3ABD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7B66F-F8E5-4572-B100-CD46245A0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36C6A-BF91-4C92-948C-5622F7CBB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8FDFD-2BEA-4334-A42B-27E7CDC72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77F83-A7CC-45E7-ABCF-8C4A2DD14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64DB-CCBF-455D-8843-E413BBEB4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15AE9-4A92-467D-9B52-C301843B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24CA1-D480-4C48-878F-3ECE8318C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A6648-029E-4465-BC38-EBFD470A2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B2EED-E3E5-45CD-AF8A-6EB1F343A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640E5-4A33-4101-9F85-2F5CCA5E1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56D5-FE43-4168-9066-7E5A3D171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6FE1-C52B-4F35-A237-071C0FEC3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7C7E-6474-432E-AD3E-7FA34C6B9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8520-0617-4A04-9D94-1E0B2E180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B46F-0706-4FA6-884E-1F1C3797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A854-6033-4FEB-9B84-290DDCF18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6C6C-8DC5-493A-AAB1-D1941CA1E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D3114-9C23-47E9-83AE-346F63921C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97945-BD8C-482C-ABEA-11440A9EA3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0:26Z</dcterms:modified>
  <cp:revision>13</cp:revision>
  <dc:subject/>
  <dc:title>Slide 1</dc:title>
</cp:coreProperties>
</file>