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1D49-6382-420F-AE88-0AADD30F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4295-B123-4AF1-80F4-FED1A866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FCAE-A3C0-4832-AC5A-59FAF2EC9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7BA6-827C-4C90-B5CE-5A6F782E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0434-6CF6-4639-B1B5-3C97569C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0122-666F-411D-897E-2158170D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7679-CD82-4B0F-A908-820E5681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BDAE-4093-4D51-9FC3-D87E5AAC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A749-BB77-4CC8-B422-1904ACBC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CF18-87BB-4891-9043-142E4E56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1DC0-8958-4DA9-AAD1-5A718A6E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6575-8153-44A6-9878-ADC88A00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610E-7CA5-423F-830D-315B0519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A232-D6E9-45EF-967F-AD100BD7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9225-F482-4EB4-B499-F151C2DC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5651-CC6D-48DF-9245-039E1C37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E363-42C7-439D-84C3-9D1776D4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70CB-35A4-4B84-AEC7-148731F4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FDE0-9455-414A-A974-6A280A71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D17D-9B6D-4940-8DF2-54DCA286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586B-6D59-4D6A-A92B-1861A95F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9C7B-8B59-40CC-A13E-34FFE2A7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FC73-9139-42F2-8357-77A866AE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AC89-62C9-4EB7-8261-2E9852E0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AE24-70AE-48A5-965A-B915AB350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7D18-13DD-4224-A006-D22B511A0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0:26Z</dcterms:modified>
  <cp:revision>13</cp:revision>
  <dc:subject/>
  <dc:title>Slide 1</dc:title>
</cp:coreProperties>
</file>