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FADB-976F-4CA4-A125-38AA6F63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917-6C69-4805-8976-D8F1714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E9D-9DD6-4233-B240-430354FA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82C-0D79-4A46-9A79-28B01813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27C-1320-45E2-934D-945861EC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60C-BFCA-4770-8458-F40349FF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ACF-FCAE-407A-A9DA-93B51B2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9B34-094E-42F6-BED9-177C16C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1429-FFB5-44AB-AB26-C865166F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1C2-A8A8-446D-AAAA-8889A43E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603B-7333-410C-8E81-3887C03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E21-3C17-400E-B1DC-4B73B077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82D-A9C1-44A5-93A4-482C5C02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4C94-CCA2-449D-9933-4F4E2B62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0EF2-05FE-4311-A4C3-0C0DAB2A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7D3-E764-47FC-A766-3C4FDFC5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1936-0390-4FEA-813D-B336F9C5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731-65F9-462D-B951-36009564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A59-2B55-4F52-934B-E9C50AB7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05A-74F2-46D5-8D58-5BC2508A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16440"/>
            <a:ext cx="7920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48E1-8A77-4A79-8C1E-9513AE1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575C-87AF-494E-8B12-58CA7F3B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861-4F4B-46EE-99E5-E56F2C61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A50-7C02-4DE8-BBB5-E381C2D3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0BD-CA4E-40AE-9953-9BBD35762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ED55-2506-49AD-B4EC-7F8D2D531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09:32Z</dcterms:modified>
  <cp:revision>7</cp:revision>
  <dc:subject/>
  <dc:title>Slide 1</dc:title>
</cp:coreProperties>
</file>