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B532-4487-4B30-8ECD-AB7556B31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3947-3F3C-48C8-9AFB-BD3BF44C0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22AF-FD5F-445B-97AF-6CEE069B8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6FB9-8C8E-4AAB-8FE8-212E00D1D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84476-22A9-4134-8221-3A77B057D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2570F-FCA0-4BC1-9213-29540F2DA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5B331-989E-46C7-B435-5B66EF547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93BBD-6685-4118-BA0D-D6F19CAE2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F7259-2DE4-4E97-A566-3117D1C65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316440"/>
            <a:ext cx="7920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0EEFB-3866-4B17-BAE6-6C0644E98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8A139-0866-4668-BDDF-42D45CB36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9B00-B5AC-4695-95D8-76E5FC220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FB6C7-5FB8-4812-9CE5-BDB91FCBF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77E88-40E5-441D-8BB9-42F94FCBA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07E70-86A3-4ABE-A06D-628224856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AB1C9-91D5-4A2C-A476-FC5595C60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9378B-67EF-49EE-8EF5-E865561C7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BE9D-CA37-4B0F-A99D-0F47D36D8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EA75-6C24-42BF-9B5D-FAA41B4A8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37AD-C17D-4DF1-AB4B-5EEE0BE87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16440"/>
            <a:ext cx="7920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8A26-5740-4035-B35A-AC62F13A6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FDCE-AE1D-4D27-9C11-7D91678E8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494F-89CA-41E7-91C5-B5B483FC1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004E-CBD7-46AA-A60F-DFD9B4973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BECB8-7F3A-4F16-9BCA-D35A8DCD3D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16FFC-BDC9-432D-86C6-DFE9AFA21A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32000" y="2205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7T13:09:32Z</dcterms:modified>
  <cp:revision>7</cp:revision>
  <dc:subject/>
  <dc:title>Slide 1</dc:title>
</cp:coreProperties>
</file>