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5393-22FD-4105-87EA-3C55F6B7B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6452-07E6-4B3E-BC87-93DBB5E6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95B6-9BD3-45F9-A785-FAD3D2613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402E-BA76-4C37-8A7A-D7961D1FD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5E9C6-88CB-4615-B4D9-F5B07583F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206FC-5690-4405-B81F-B932E734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4A9F-6B22-4346-84B6-B26F4361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B51D-5014-49D0-971C-2305F056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0FC6-E9D3-491F-B6F7-5E51285A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1853-081B-4E85-8018-5966C8EE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D29E-9D39-42EA-95AC-10B70ACB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BEFD-9408-4C90-A047-C536915D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10CF2-6DB2-4E06-9CD5-FC981574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8876A-D9A3-4D96-9BD5-EC9219E1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9262-3983-4BD2-9A6E-A579E142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2146-1D80-4118-ABC1-DC0224B46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9FF6-697B-47DC-AE99-4767CA33B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74CD-CF87-4D64-AACF-FCA039A5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DFC9-B56C-471D-A89C-DFF198D6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CFE6-4F55-4247-96CB-762546EF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7E3E-9516-4718-A050-10F7A76A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7E5F-0006-4991-AC0C-CB1C5F9F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FF35-DA34-405B-A366-AE58DE3F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6DA6-D0FF-40D8-B73A-C0FAAF34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AE3D-31A5-479F-9F0A-02F6CCA51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A062-031F-49B3-AA23-4F2F64727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09:32Z</dcterms:modified>
  <cp:revision>7</cp:revision>
  <dc:subject/>
  <dc:title>Slide 1</dc:title>
</cp:coreProperties>
</file>