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CE50-BE8B-4E5E-B2A3-5C44A6979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5430-A81F-4917-8C75-6E1B087B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A26A-6DD5-47D3-8047-30C709177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EC02-6517-4830-B756-F04219592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385B-9819-470C-A07D-F27AA5656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13AF-E719-45CE-9EAB-8CC15C9E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B34A-F184-43ED-98E2-29D47498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E4DB-B91B-492F-ADB5-85D802F7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69EA-36D7-4291-BC4C-A03D926F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E0D8-87C6-4686-BA46-90893A76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4C6F-3062-4D73-AF2F-61B44BEA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E987-3B02-4DAB-B4F8-33F11EDD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40AC-EEA6-4284-BEF6-C20E4D09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29CE-423F-4FF2-BB64-FCC2C1F1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BE48-1967-471A-A24B-303EBECB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B237-9256-416C-8D01-8F20C0839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7DC9-0928-4072-B26D-FE3D08E74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885B-F09B-49E7-8085-B3C33399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4304-56EE-4E16-94B0-6BF4814C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86EA-A158-49C2-80ED-B5E29FFD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19AD-CEF8-48CA-A658-FF4B3463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8A85-ABAD-418B-93B2-E12FF983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191C-67B9-49C8-B9F4-A968ED71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2017-9313-40C4-8C31-9A406D9D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BD59-E9BC-45D9-9C0D-F49AA5333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3A68-1B9B-4D8E-900E-F027439BD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09:32Z</dcterms:modified>
  <cp:revision>7</cp:revision>
  <dc:subject/>
  <dc:title>Slide 1</dc:title>
</cp:coreProperties>
</file>