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FCD8-E806-46AE-A83C-9B7AE884C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EDC0-568D-489C-BC5B-442D5C02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34D1-1BB0-4831-8671-7C4912766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9B08-9D9C-4D6C-9B54-29E0F1246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BD74-AD31-45F3-8279-5E396E48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E697-4E84-4CAC-B7EA-947D6734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A4AD-B8E2-4C74-80DE-9818EEC2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9B60-49C0-4FA8-B1EC-910E23BB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5730-597C-40E7-8CFA-018A804A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EFD4-2D82-49E4-88AB-DAF6CEA9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033E-2F82-436B-B42E-AB6C4E21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5D53-F196-4799-AFA1-C5A91FF0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A157-FAE0-4658-AC1D-01E9E1894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49:37Z</dcterms:modified>
  <cp:revision>3</cp:revision>
  <dc:subject/>
  <dc:title>Slide 1</dc:title>
</cp:coreProperties>
</file>