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9F3-B28D-4993-8528-6EE5AFBA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CB2-0510-4419-9EDF-7C017B48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4F9-8616-4687-9090-A3D829A5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CC2D-0BD3-419F-B1AD-08528398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B78-1F0C-4A35-8C29-0E75759D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DAD-2AF1-4CBF-8B6A-52916172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9CD-7864-43DA-A6E8-829685AF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47C-CDAA-4F50-A8F7-57B5F118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D4D-8225-4015-B06F-C911927B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8CF-2E1D-491E-A823-9F2C6589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CFE-800F-4079-A9CD-D61DBA62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BF8A-FC7B-4753-A0D1-168F8D50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A54E-EDB5-4133-ABB5-F49110A7E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24Z</dcterms:modified>
  <cp:revision>5</cp:revision>
  <dc:subject/>
  <dc:title>Slide 1</dc:title>
</cp:coreProperties>
</file>