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731D-7BF9-4D8A-9504-9F854A167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4625-03C7-48FD-BE45-26A3AAA1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9F02-F370-4890-A5B2-F906450FA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F19C-9B48-4833-8356-CEB9069F7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F2BC-71E3-439C-A3A3-995FCEB4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2B46-C761-4C77-A784-7C2E4E81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E6C2-217C-40D4-8D17-1F11E6EB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3918-2E45-470C-BB89-68176ACD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D21F-F37A-4B48-A8BB-74A176E0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FEFD-88B3-480B-BB88-07D1CF1C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4FCC-15BD-4E90-BC8B-41618481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D382-0E65-47AB-90BD-6AD7871E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90A3-46B2-4639-BF11-424FED9F5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01Z</dcterms:modified>
  <cp:revision>4</cp:revision>
  <dc:subject/>
  <dc:title>Slide 1</dc:title>
</cp:coreProperties>
</file>